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85AA-7C80-44E6-8B0B-AD0E24A80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3703-A7E3-4FE2-8387-F2105B9D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3DB9-4A44-40ED-9C02-9A98FDA1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AEFD-A14A-43B0-9D5B-979CCBAB5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2A09-5D98-41B7-BA0C-4B9D6160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7EAE-5B6F-4BA8-B42C-B6D6970F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D48F-259D-4FE8-A333-CDE3A5E2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0B6E-2F3F-4E1C-8199-E0AB20EC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C70B-27EA-4FD1-B0A5-ECB1EC16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5D2B-D30B-4483-9D35-07DC2A07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D800-2052-4E87-913D-4D4012E8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B49E-BF70-4113-9870-90A57F1D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B7E3-A045-4EF5-B8FA-F4A18F574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609480" y="-31680"/>
            <a:ext cx="11125080" cy="728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Papyrus"/>
              </a:rPr>
              <a:t>Palestinian Point of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7432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gency FB"/>
              </a:rPr>
              <a:t>Patrick Gehman, Patrick Wynne, Ian Kim, Roshmi Patel, Brenda Michelson</a:t>
            </a:r>
            <a:r>
              <a:rPr b="0" lang="en-US" sz="3200" spc="-1" strike="noStrike">
                <a:solidFill>
                  <a:srgbClr val="333399"/>
                </a:solidFill>
                <a:latin typeface="Agency F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ate Palestinian demands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estinian demands; separate state, with the same borders as 1967, before the 6 day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estinian control of east Jerusal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raelis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dom for Palestinian refugees to return to their homel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ant control of waterways in Palest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838080" y="0"/>
            <a:ext cx="10972800" cy="6897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Extremists (Hamas leader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Brush Script MT"/>
              </a:rPr>
              <a:t>We vow to continue our terrorist campaign until our demands are 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Brush Script MT"/>
              </a:rPr>
              <a:t>We threaten to destroy Isra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638680" y="4451400"/>
            <a:ext cx="35053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arch and April of 2002, Israeli soldiers attempted to destroy a lot of our government, including record equipment, buildings, electricity supplies, roads, and much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4:32:20Z</dcterms:created>
  <dc:creator>NPSD</dc:creator>
  <dc:description/>
  <dc:language>en-US</dc:language>
  <cp:lastModifiedBy>NPSD</cp:lastModifiedBy>
  <dcterms:modified xsi:type="dcterms:W3CDTF">2010-03-30T14:55:30Z</dcterms:modified>
  <cp:revision>2</cp:revision>
  <dc:subject/>
  <dc:title>Palestinian Point of View</dc:title>
</cp:coreProperties>
</file>